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9D2-587F-48B1-849B-04A3BEFB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545-7B04-4AFF-AEC3-7834F13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6293-8552-4BD8-AC9C-03A3DCB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8DC58-5D7E-4817-AE00-93A35A03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DC258-9B2E-42B7-8857-886239A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BF436-BB8C-400F-A61D-7921C16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EF5F1-0142-44CA-A542-BA6DE2B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F243-ED9C-476B-BFAE-43C837C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6A825-5810-40AF-85D8-D136E552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F4570-B557-481A-8DB5-0F5081DD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F8471-13E9-4F13-86CC-D400120D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23F93-B0E5-4172-BE39-DAD09BFA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882-DF5F-4DBF-95F1-5A43ED8A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C3C2-9592-46FC-B6C8-856BDEB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6C24F-AF8B-47F9-AB9D-6F82DD01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5096-A1DF-47C5-AD01-CDC69B05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A6FF8-64CD-46B8-A382-0452448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14F4-D60B-4C97-8FE2-E6D0EFF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3F6B4-CBD4-4B4E-BF62-1F6BA59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CBAE-750B-40DE-A2F5-44896944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97E05-7748-4F5D-95A5-BE5138C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7EFCD-E34D-4910-BA92-321A8A9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942B-B546-4E62-8D22-225171F5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DE1-B811-4B46-B308-F0C10CAC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95FA-C0F7-4889-A37E-9EBDF901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BB70B-CB4E-44B0-9457-B66249F3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0D7A1-E4C1-4F5F-A0F7-7D30C28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39619-B7B2-4B8F-AB4B-D09850F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C0EB6-1930-40BA-BF6B-B195C024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00C0D-D582-4223-B4C2-019C55B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0618-F910-4A25-8408-06F5073D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C1E6-447D-43F3-A030-796A43B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DBACD-E01E-4AD2-B081-62AD04D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C557-0A3E-42A7-86E5-F4FEE12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0EB-AF62-4E7F-B9EB-2DBECC9A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B98C-4BC2-4482-B301-07CE9F9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FFEAB-AF27-400D-A0ED-9678010B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63FB-2F1D-45AC-859D-A2A884A2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5ABE3-3441-422C-B824-8A49C1BC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72D5-76A9-4090-8D64-1D2F31E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B3642-C21D-4B81-9F46-C0AD260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4C416-C018-40AD-85F3-4BF344F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88352-847F-408F-8764-64CE549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88CCF-0EDA-4425-B97C-AFFE5025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042D3-93F7-42B1-9486-8784EF7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992-FCEB-4FD7-BE28-F4AAEF9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C84A5-DAA7-4B65-83B6-E62B47FA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35897-1DA1-4114-A83E-B2061EC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E6E40-6831-439C-A4FB-C660BCF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F7A0B-85AF-4005-B542-12AB8620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ED750-AC3A-4023-AD54-27FE8CB5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A0EE1-E636-4AEE-B353-27FB36DF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5ED44-4414-4BC9-A384-120566F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55DBE-AEEA-44E1-BA5D-99A49CBB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F5CA2-E950-4D40-97C4-E392C27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F8426-3FCC-453D-B1DF-403AC79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8C92-51D1-4A5D-B29B-132412E5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3502E-46D2-44B8-B770-8A308850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B56F2-7CB5-4BCD-AD7D-BA9AA3E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9C499-76EC-4DAE-AB93-0D22848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32A5B-2216-481A-885F-C24353D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CA007-C5EE-48E6-A9B3-955744FA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B9F6D-9E07-4566-BE30-11B219BD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FC2C3-EBF0-432D-886E-361A5466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37CB8-1B69-4243-984E-3BBA55D9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81D1E-36D4-4C36-8948-C7F0163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B699D-35FD-4126-B039-6A137A9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D6E-D686-4564-8AFE-43A51A0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1922B-F6DC-4B54-81EA-3B4810D3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9A5D5-5EE9-4BF7-B620-CE9572C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59E14-9FBA-44D3-9CB0-88DCB5FB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78155-A14B-4D89-BCFA-5B0922D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C142C-EF84-47FD-B8A2-9D38F39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5644B-5D25-4F4B-8C13-A9E9FB2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B23E8-D21B-4A03-ACF2-96772D89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FCF99-1077-4C17-81C7-DAFF82E8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A9F54-855E-4670-87D4-0FB4F0A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AE160-82DF-4098-9503-CD67173F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E435-775F-4003-A15D-15C83772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679E5-AE4D-42BC-A382-1617FA14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91EC7-4E84-41BA-99C2-A030B15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7BED2-72B3-4411-BE33-E569C62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29C7B-F087-43DD-BE00-28C7732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880B5-D390-43BC-96B6-6577489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A0F1D-AAF4-4AA8-9002-2574E0A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E7166-EA53-476D-B16B-FC57EE21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F5CC7-95D1-47AD-A1DF-D95D755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FFF88-B663-4368-92AE-F7C5184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AD52B-283C-460F-B012-7FB9D7C0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A2E9-B56C-4D46-A7F6-0A46CE7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AE879-227C-45D7-BDCA-43499C97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F1790-55F6-46DC-924E-890B9E0D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3226F-FE2B-47EF-A692-520BD310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3E041-20DA-4E45-AB49-6E8B0397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59A68-D080-42D3-ACE5-24A04BA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34147-5B3F-48EC-9F10-CD0BE73C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10BF3-BD9E-463B-83DC-FA22E968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38492-7511-40A1-9DDC-BD1FE28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2AB2B-41D5-4B1E-8876-CABC12B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5A94E-8455-47DE-A69E-3D9049F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C75E-9425-4E7F-96DA-335DA1A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89620-D536-4B3E-8364-61814E2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980B4-47D5-46B6-A6AE-CE53195C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77B8D-5AA7-4859-ABE5-27E244D9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8E31A-1C43-4DF4-83C7-6B2B29C4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7637B-5EB2-4499-AE14-698004B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45E01-96D8-4C14-B1BF-BB710513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C6B770-00E3-4643-B06F-7286358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66702-605E-4651-B0AE-7187E273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23A27-A662-4844-8434-E2DE05A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1D552-5777-4846-AC1D-7A89A43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AA0-C2E9-4E17-A1A6-50C573E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74F-A210-4E6C-90F8-942D13E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A0C04-7908-4B4B-9026-A24B372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E67CF-5973-44E7-A53B-A149DCB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FBE0A-FC35-4C5E-A76F-B8DD292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56F81-3C79-4D2F-9375-45CA5918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7DFEE-4AA7-47A4-9F10-29E3733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1682A-031E-482E-8641-B477EE9F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71EB2-96C8-4945-95AE-AFBDD2B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3FE91-6E4F-4885-A220-27E66F1C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BA5E0-E8A2-42E4-82E2-9E1C6A3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541AC-F6E9-435D-9D80-32F14335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D77A-E6F1-4E97-A803-B1EA447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9AE10-4F40-4BD7-8471-3544009B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536F2-4F8B-4ABA-8940-7C0AB99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07F75-C343-4071-8A2A-225489E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4B42B-C6A2-4887-9BF2-FD7CD8E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72FB7-4212-459E-A9B7-83AEDD2E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F838E-DFB2-4D80-88FA-F8C1BB33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EEF92-FCE1-495A-9733-567234A5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4537E-79E4-4B0E-838D-737415DA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742FA-8E65-492D-BF9E-4DE2970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EADA5-C54B-477B-A092-34D61BA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B3DB-F67C-409E-ABED-4F629CA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AC8E7A-8F7F-47DB-A6D9-E881941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59929-C2CC-4435-A3E1-45ABF8A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A52C9-5D31-497A-BD96-FA167AA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A063B-6406-444D-A745-80379A3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8BF1F-8E2B-45C0-838B-8C70B41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49111-422E-4FB1-9279-D8349771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3817E-6DDC-47B4-A371-7298C977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230FF-AF7F-4F36-96CF-CE2B5D60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04BF1-6D2D-4385-9AF9-A309DF2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8694A-2BE3-4B42-8CC6-09B66F9A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9CD-325B-4CFD-A34E-5842E9CC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46126-CDE6-4AC2-A6C7-D31A2A0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0982C-C64A-49B2-85FA-7ECB40D1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92B72-1B0A-4A3A-94CF-019A17E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D6191-D4D3-401A-8840-1ED65148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7E334-8E87-4923-A71B-0BFAAB0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86DDE-C611-4E21-A715-F5E3FEC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112DC-5848-48D2-B427-F732249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C3326-9814-46F7-B7A1-6B37AFB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9B677-2B7A-45A6-82EA-A235AC0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4FC1E-2B90-4F03-B87F-5801B25D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7D4F-2332-4E97-9F38-2170A540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EFAF6-9D4F-40D7-BEEC-4F7D672A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45915-B5AD-42B4-9E57-222BBA68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EE240-FC1C-49CF-8DE2-6E7FD6B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00DAF-54C1-4E91-B5ED-ACB590F5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31849-33E7-4DB5-9C26-6255971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47631-35CD-4A61-AE64-58553EC7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47543-06BC-48B8-93CA-9B4D3D1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58A9C-DD2A-4947-8832-3C586E8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113D3-B9A2-43C5-8CEC-EE1C6B73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D5C6A-9EFC-4373-AFBF-2AF2170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E5B0-B195-4DC8-A86E-6297B1DA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64281-9839-4DD3-986A-C68A5C2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AAA03-7529-4BA2-B919-658F7C48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4B235-089A-46E1-9C23-C372A056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B559-C461-451B-A42F-5DFAA7B2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7A9C-5CBB-4F64-92B9-2C5C604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1A6B-AFE0-4349-AB5E-9263A7F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8C6C-8871-48AE-8CCA-25B3B39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7E3-681F-4E72-86DD-288498DE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FF02-34B3-4F26-A0FB-E58FB7F0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E547-4292-4484-B44A-B7D5A85C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D17C-8462-449C-ADE7-1AECB5D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2A4D-B80E-40F7-913E-06D10D5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5460-E764-42E4-9AB9-410F36EF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7DF2-E7FA-4381-8147-83243F93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1840-7CBC-4D59-BA1A-85ECEC85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51A9-1FD1-4AD5-B9E8-EAC5FC38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866D-E753-4B66-93D0-4DB93F7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4582-CE2F-4869-AD3F-17D2F7C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CC1-EF1D-4244-99CC-98F58516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29A0-42F0-439A-9B94-6E15D85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7169-ADF3-4493-B018-85E083E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CDAD-8BF6-4173-A364-31DC3AC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B6EE-C833-46BA-9DFF-D9400EB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607D-FF57-4AC3-B23F-0320124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C9EF-7E03-4E94-8608-B3B5856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6E59-3625-49AF-83CC-0B184EF4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144C-B029-4ACF-86C6-EA33688F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409B-25AE-4ACF-9DCD-ABB7358C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B988-20C4-46C1-9944-35B31039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022-97D1-4AF1-A13B-561C0323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8638-0CC4-4BE8-9A25-63B6681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5A53-2FEE-4A77-94A3-19985DA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0A6C-86F8-46A2-8570-56765F2A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CD20-DD55-4724-BA57-7DB014B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2ED4-0584-4FE1-B821-852C248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A97E-99A5-46A0-B1DD-4FF54D02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D4B4-A2B1-48B0-B80D-3866597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DA67-6E2B-47A6-BBD0-151C8661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E063-B90D-4F2E-AD37-6E6F3D2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552F-1A8B-451B-89E4-DE93904C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4CE-037C-49D8-9439-8505318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000B-701F-4121-A39F-0D601C50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9D4C-1E3B-4339-92E6-6A1AD90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9EFD-AA57-4119-92D7-7E368701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6F51A-8EC3-4071-ABB0-8FC3ADA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4556-7198-490F-A5DC-3B29F0D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B002-5062-4BDC-8C09-E889C73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7EA9-A570-437A-A402-47288FBA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9990-6582-46F3-BBE8-C16DEC8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6F4D-1DC5-4ABB-87B1-042095E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61E9-9CD9-4A07-9254-18E422D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DC1-5401-4537-8563-71B0001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A1A7-B508-4998-BCD1-3451757C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EC83-D3B4-4B96-AAF6-7255F4E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E850-E4BD-47F8-B5B0-0A557FE1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BEF6-EE23-4C6C-89AB-405FBCC4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83CC-CB57-4B0E-B7FB-0EB8C5A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62631-41A2-4382-AC7B-3F8464AF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0E21-88E3-430B-A70B-4FFD6B63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D418-017F-4C8E-B3C8-6C9421E3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3A456-6659-4460-B071-D586896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EA43-2CE8-4666-A14A-7A8E1AD7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5CE-BD93-4733-AA7A-D4CB716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7234-E1F7-4FC3-A1C6-DC67D30F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70A09-A75B-4DF7-8A35-7A5A3DB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5ED5-BD3C-45D5-B17D-1CCF979D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E536-3039-4934-AAD6-DACC38C9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F303-D65A-4424-B475-C9A14188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538C-4D17-404D-8615-3A0479DF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5167-FA7D-48D7-A8EB-D793D4D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F280-E46F-40C7-A07F-123B6E0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595D-E943-486E-9ED1-96A9B93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8611-1AC2-49CE-B84A-0A69D08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511-D7C2-4031-BAB3-547BF174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3192-97EC-4BDA-8D0C-5926EE6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8215-2D4B-4524-996E-93DAE59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9E4E7-F3B3-4FBA-A94B-3E6D70E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29D9-94BF-4653-AED5-8F912CD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C1BB-C0BA-42D1-AB9C-106E943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E1865-FD4D-43E3-96E1-FF423CE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91E90-EBB2-4C90-8342-523640AC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B2EE5-8086-41A0-BAE2-08A20C9A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9AB2-DDE8-4A86-BBFE-A1E1E69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30C2-B27A-4A6D-AEF5-6CF53FA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427-8AB0-460A-8E55-740108D8F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A722-7B95-4B5E-B33C-C4AA49794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B0C-E7B5-46BF-9A91-8D10812D9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485-24B3-46B7-AFA9-CF98AD516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E56-D2AE-442A-842C-C0162991F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30AC-AB3F-43FF-85E1-D34CA0DB4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CC8-2A11-4698-BF32-B5E3CE6E3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35A-7AAB-45BE-A940-E20D6A409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1775-5517-460C-B0F2-67D6A0218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897E-D47E-4F7F-8DE6-769471FB6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E96B-EC0A-431E-BE04-AB757365E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DAAB-F97A-4439-91D2-389FD593D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B2F2-B25A-4342-B004-5F7EA3F92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CD2-0A3E-44D2-9100-191E1EEB09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54F7-ABB6-4BFD-8C1E-7753E63C69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8FA-B5BA-439E-955D-7432E8CEB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89DD-2E5B-4616-ADBA-AF22A9199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4C10-CD0E-4DE7-85B8-2E1333349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3DD-6F37-46CF-AA9E-CC7D70BE7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D05-7B48-4A91-B506-CCCD50F63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23A-D157-4D00-8E67-DE093884C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7DB3-2F50-4470-8A73-39DE4A260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E35-3468-430C-96F6-161C6DB54B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62D-94F0-49C7-A945-D5D6736F0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3116-2C52-4F4F-8AB3-5BD4652EC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18F8-8AA8-4E8A-86D3-93541675E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F22E-69AA-4E3A-9237-B88003E47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BF6-B945-434E-9494-C99386738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E86-3490-474F-930E-A73C91805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4492-CA0C-4D8B-AD56-405A0C0B9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2D83-AF80-43EB-8038-9E8C3EB0D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833-28A5-4EEF-ADCD-4EBBB3983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22D-FE54-499E-99AF-C359384DF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2699-5C8F-41CC-AC23-94BFA5B35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DB3-E23C-4946-8620-E5716FAC5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0B6-398E-465F-A80C-26B51D9EE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A7E-90C3-4A5A-B9B6-561466B2C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0C5-8B67-4FE3-B146-8C9D3EBBE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FB7-40C6-4E97-8BE8-36DBA243EE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3E23-22C8-48A5-B092-184C59D482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57280" y="3038400"/>
            <a:ext cx="80294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9633" descr=""/>
          <p:cNvPicPr/>
          <p:nvPr/>
        </p:nvPicPr>
        <p:blipFill>
          <a:blip r:embed="rId1"/>
          <a:stretch/>
        </p:blipFill>
        <p:spPr>
          <a:xfrm>
            <a:off x="1247760" y="1490760"/>
            <a:ext cx="6648480" cy="3876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1116000" y="220500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1187280" y="278136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1187280" y="342900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332000" y="4724280"/>
            <a:ext cx="669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68609" descr=""/>
          <p:cNvPicPr/>
          <p:nvPr/>
        </p:nvPicPr>
        <p:blipFill>
          <a:blip r:embed="rId1"/>
          <a:stretch/>
        </p:blipFill>
        <p:spPr>
          <a:xfrm>
            <a:off x="733320" y="1197000"/>
            <a:ext cx="7677360" cy="217152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8610" descr=""/>
          <p:cNvPicPr/>
          <p:nvPr/>
        </p:nvPicPr>
        <p:blipFill>
          <a:blip r:embed="rId2"/>
          <a:stretch/>
        </p:blipFill>
        <p:spPr>
          <a:xfrm>
            <a:off x="243000" y="3583080"/>
            <a:ext cx="8658000" cy="2438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183200" y="1773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4255920" y="236376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7308720" y="1773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323120" y="2349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1835280" y="4869000"/>
            <a:ext cx="965160" cy="4330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4932360" y="4869000"/>
            <a:ext cx="965160" cy="4330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028000" y="429264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013600" y="4913280"/>
            <a:ext cx="9651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71520" y="847800"/>
            <a:ext cx="8400960" cy="5676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20318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20178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59280" y="3673440"/>
            <a:ext cx="50292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21520" y="370188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087720" y="534528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107120" y="5345280"/>
            <a:ext cx="50328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539640" y="665280"/>
            <a:ext cx="7944120" cy="6076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676520" y="175752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348000" y="18162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124000" y="285264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435640" y="175752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7107120" y="181620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5883120" y="2852640"/>
            <a:ext cx="1857600" cy="1081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676520" y="4479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3348000" y="453852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2124000" y="557532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1"/>
          <a:stretch/>
        </p:blipFill>
        <p:spPr>
          <a:xfrm>
            <a:off x="5435640" y="4479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2"/>
          <a:stretch/>
        </p:blipFill>
        <p:spPr>
          <a:xfrm>
            <a:off x="7107120" y="453852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3"/>
          <a:stretch/>
        </p:blipFill>
        <p:spPr>
          <a:xfrm>
            <a:off x="5883120" y="5575320"/>
            <a:ext cx="1857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347760" y="1414440"/>
            <a:ext cx="8448480" cy="4029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474920" y="31417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407200" y="31417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632640" y="2349360"/>
            <a:ext cx="21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619200" y="1938240"/>
            <a:ext cx="7905600" cy="2981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116000" y="27655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341440" y="197316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062680" y="2781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288120" y="19890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743040" y="1895400"/>
            <a:ext cx="7657920" cy="3067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258920" y="27687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2484360" y="2048040"/>
            <a:ext cx="2160720" cy="433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5205240" y="2766960"/>
            <a:ext cx="2737080" cy="230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431040" y="2058840"/>
            <a:ext cx="21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824040" y="781200"/>
            <a:ext cx="7495920" cy="529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413080" y="267984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2989440" y="170028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6443640" y="270828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7020000" y="172872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2340000" y="501336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2916360" y="403380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516720" y="501336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7093080" y="4033800"/>
            <a:ext cx="10778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4276" descr=""/>
          <p:cNvPicPr/>
          <p:nvPr/>
        </p:nvPicPr>
        <p:blipFill>
          <a:blip r:embed="rId1"/>
          <a:stretch/>
        </p:blipFill>
        <p:spPr>
          <a:xfrm>
            <a:off x="957240" y="2281320"/>
            <a:ext cx="7229520" cy="2295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935280" cy="4330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241880" y="3471840"/>
            <a:ext cx="474480" cy="4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5219640" y="394812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2231" descr=""/>
          <p:cNvPicPr/>
          <p:nvPr/>
        </p:nvPicPr>
        <p:blipFill>
          <a:blip r:embed="rId1"/>
          <a:stretch/>
        </p:blipFill>
        <p:spPr>
          <a:xfrm>
            <a:off x="142920" y="773280"/>
            <a:ext cx="88581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4:1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